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4EF9-68A8-4041-867C-48FB284D9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waves can not travel through liquid. This is how we know Earth has a liquid outer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ECB-E348-4C11-9EF3-EB74EDA5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B5D-03EE-4FD1-BE5F-50649B3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A65-A8A2-4B21-AE4D-7384E57F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DFD-42ED-46A6-AB2C-19DADE2A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F8E-EC9C-4BF8-911A-A6A5AB92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ACC-3684-475B-9385-DD8026A3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D71B-078B-4542-A5D3-F0C16142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CC93-8F58-4C70-AAC0-04A66EB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E9C-C765-4846-8B9E-E517A79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5CF4-9B35-4070-94B5-D9A72F1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C5C8-D673-4824-A4EF-D7F1B3A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612-6A3C-4818-9CE0-13D6E6BF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6A79-30E3-45B8-8616-48D0B27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0BEC-91F3-4F80-8EB8-7E537FF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E9C2-E6FC-479D-8454-9F0D7EB0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F18-E065-4D93-9210-1694477E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474A-A1E6-4843-B516-310CFAA2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05F-CADE-4334-94D1-AC0857C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B9C-E111-4568-9996-4EE99BED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367-0FC5-4601-B16D-84C8057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3BE-4DCE-4C6B-A592-B8D6994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930-94E3-4A2C-A9B5-CDFA9AE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6BE-5A50-4970-83D7-830B218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709-B63A-4D63-BD89-C22ABF1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FE4-74F5-419C-96CC-27CA9BF191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B1B-858A-4FE7-A174-B05194DE94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ter 19, p495 (CP book)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724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(P-wave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tch and pull rocks in the same direction that the wave is carrying i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 firs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6576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724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(S-wave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 rocks to move at right angles to the direction the wave is carrying i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 after P-wa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0440" y="1523880"/>
            <a:ext cx="3619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2160" y="1905120"/>
            <a:ext cx="4724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face waves - move in two directions and travel along Earth’s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1689120"/>
            <a:ext cx="35560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5867280" cy="990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versus epi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957400"/>
            <a:ext cx="914400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me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ismograph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nsitive instrument used to record vib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gram - data collected by the seismo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logist - geologist that studies earthquakes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meters measure waves frequency and 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102120"/>
            <a:ext cx="4800600" cy="3755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14840" y="3129120"/>
            <a:ext cx="45291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ismogram - records the arrival of eac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ismic wav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vel-Time Cur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Y ATTENTION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’ll need this for your la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ime difference between the P &amp; S waves can tell you the dist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632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ues to earth’s interior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679840" y="1616040"/>
            <a:ext cx="57783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Stres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- force per unit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ures form when stress exceeds the strength of the rocks invol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types of str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ession, tension and sh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Stres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St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429000" cy="32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4116240"/>
            <a:ext cx="3581280" cy="274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218280" y="1828800"/>
            <a:ext cx="292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Strain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in - the deformation of a material caused by st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stress = elast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stretching like a rubber band, it stretches and ret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ctile deformation = plast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al is permanently defo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ttle = material breaks, stress limit is exc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orces within Earth:Stress &amp; Strain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929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Fault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ult - fracture or system of fractures where movement occurs when stress is applied too quick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types of faul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irs with tension stress)</a:t>
            </a: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irs with compression stres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ke-slip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irs with shear st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Fault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88776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965240" y="1752480"/>
            <a:ext cx="5578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stress builds beneath the surface, rocks can reach their elastic limit causing them to break and producing an earthqu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brations of the ground are called seismic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Forces within Earth: Wave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types of seism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y waves travel below Earth’s surface, include: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P-waves)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econd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S-wav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aves - travel on Earth’s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22:54:54Z</dcterms:created>
  <dc:creator>PA Department of Education</dc:creator>
  <dc:description/>
  <dc:language>en-US</dc:language>
  <cp:lastModifiedBy>PA Department of Education</cp:lastModifiedBy>
  <dcterms:modified xsi:type="dcterms:W3CDTF">2008-02-19T00:23:06Z</dcterms:modified>
  <cp:revision>18</cp:revision>
  <dc:subject/>
  <dc:title>Earthquakes</dc:title>
</cp:coreProperties>
</file>